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6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A570-CB66-43FC-9DC5-16D5B9289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8BEC-E211-4D19-9581-B7FC383B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30E0-1C6B-4E33-9C01-C307509F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D831-089D-427B-8AA2-1CF3B99F0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8D39-5752-4DC7-90E2-7610E996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DA7E-7215-47B1-8F79-28B4C7DB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DAB8-BDC8-4BB2-9F8E-0E8836A5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0DD5-432F-4216-B07C-1BD80A72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60CD-F41C-4BCA-9B73-921FCD3D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F65C-0A26-477A-A112-7F1E76EB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CB5B-4B9E-41B6-B488-1ED45189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DD1A-7982-4BD6-9771-3DD361AF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2572-5576-4D0C-B097-51004FE4894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Goldfish bowl 1.jpg"/>
          <p:cNvPicPr/>
          <p:nvPr/>
        </p:nvPicPr>
        <p:blipFill>
          <a:blip r:embed="rId2"/>
          <a:stretch/>
        </p:blipFill>
        <p:spPr>
          <a:xfrm>
            <a:off x="7359480" y="5067360"/>
            <a:ext cx="1784520" cy="17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nthro.palomar.edu/animal/elephant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Classification</a:t>
            </a:r>
            <a:endParaRPr b="1" lang="en-US" sz="72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94216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UL Biology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R Jefferson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r. O’Con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410080" cy="4194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43200" y="53341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re do I belo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B725-104A-422D-841C-A9768D3CEA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New Categorizing Techniques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dvances in the technology … molecular methods for classification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pare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NA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 different organisms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degree of similarity in DNA between the organisms is proportional to the organisms relatedness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857A-2DD3-40F2-AE96-8F5D5627B8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900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5 Kingdoms of Life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95560" y="1600200"/>
            <a:ext cx="4952880" cy="4952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2971800" cy="153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26AF-4B06-4384-AE4F-E294AABB9F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66680" y="1442880"/>
            <a:ext cx="6248520" cy="5050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743200" y="17208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33720" y="304920"/>
            <a:ext cx="556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  <a:ea typeface="Arial"/>
              </a:rPr>
              <a:t>6 Kingdoms of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DEA3-D000-411E-94A4-BC3C25FD0A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Kingdom Monera or Eubacteria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 or absorb f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 w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ptidoglyc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Text Placeholder 2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A866-601D-4314-BDA0-9F197DBE99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Kingdom Archaea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 or absorb f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ilar to Eukaryot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 w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seudopeptidoglyc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protein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Text Placeholder 2" descr=""/>
          <p:cNvPicPr/>
          <p:nvPr/>
        </p:nvPicPr>
        <p:blipFill>
          <a:blip r:embed="rId1"/>
          <a:stretch/>
        </p:blipFill>
        <p:spPr>
          <a:xfrm>
            <a:off x="5334120" y="2438280"/>
            <a:ext cx="2825640" cy="22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E029-1DB8-4AFE-AE50-B90D6BEADD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Kingdom Protista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gest or produce f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Text Placeholder 2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403848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9B9C-22C8-4B03-9306-B97C8C2B5E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Kingdom Fungi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cellu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 w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i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sorb f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Text Placeholder 2" descr=""/>
          <p:cNvPicPr/>
          <p:nvPr/>
        </p:nvPicPr>
        <p:blipFill>
          <a:blip r:embed="rId1"/>
          <a:stretch/>
        </p:blipFill>
        <p:spPr>
          <a:xfrm>
            <a:off x="4114800" y="1752480"/>
            <a:ext cx="4800600" cy="295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641A-B230-4263-A7C3-341D31A53D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Kingdom Plantae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cellu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 w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llulo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e f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otosynthe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Text Placeholder 2" descr=""/>
          <p:cNvPicPr/>
          <p:nvPr/>
        </p:nvPicPr>
        <p:blipFill>
          <a:blip r:embed="rId1"/>
          <a:stretch/>
        </p:blipFill>
        <p:spPr>
          <a:xfrm>
            <a:off x="4419720" y="1828800"/>
            <a:ext cx="4267080" cy="277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214D-786A-4ECE-9C92-0AEBF28AEA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Kingdom Animalia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cellu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cell w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gest f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t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Text Placeholder 2" descr=""/>
          <p:cNvPicPr/>
          <p:nvPr/>
        </p:nvPicPr>
        <p:blipFill>
          <a:blip r:embed="rId1"/>
          <a:stretch/>
        </p:blipFill>
        <p:spPr>
          <a:xfrm>
            <a:off x="4267080" y="1447920"/>
            <a:ext cx="3359160" cy="422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51AB-FDB3-44F6-BEBA-9E1E0F00D5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Terminology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gning organisms to different catagories based on their relation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xono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cience of naming organis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at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ing evolutionary relationships of organis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yloge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olutionary his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Text Placeholder 2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4495680" cy="290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3523-7EA9-41FE-966A-6B43B1CB59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Aristotle 384 BC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ified organisms as either plants or ani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Text Placeholder 2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2757600" cy="358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F8A5-E009-40F1-B954-3D65845464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Cladogram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olutionary relationship  of a group of organis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clad (group) share something in comm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cestral traits are the old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rived traits evolved l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Text Placeholder 2" descr=""/>
          <p:cNvPicPr/>
          <p:nvPr/>
        </p:nvPicPr>
        <p:blipFill>
          <a:blip r:embed="rId1"/>
          <a:stretch/>
        </p:blipFill>
        <p:spPr>
          <a:xfrm>
            <a:off x="4343400" y="2209680"/>
            <a:ext cx="4800600" cy="288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17A7-AB40-44EC-96DA-922877CE08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ext Placeholder 2" descr=""/>
          <p:cNvPicPr/>
          <p:nvPr/>
        </p:nvPicPr>
        <p:blipFill>
          <a:blip r:embed="rId1"/>
          <a:stretch/>
        </p:blipFill>
        <p:spPr>
          <a:xfrm>
            <a:off x="3809880" y="1447920"/>
            <a:ext cx="4800600" cy="28018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Cladogram for Transportation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els are  the most ancest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ngs are the most deriv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B48C-EDFC-425D-B251-B6114F087D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990720" y="762120"/>
            <a:ext cx="7695000" cy="5637600"/>
            <a:chOff x="990720" y="762120"/>
            <a:chExt cx="7695000" cy="5637600"/>
          </a:xfrm>
        </p:grpSpPr>
        <p:sp>
          <p:nvSpPr>
            <p:cNvPr id="107" name=""/>
            <p:cNvSpPr/>
            <p:nvPr/>
          </p:nvSpPr>
          <p:spPr>
            <a:xfrm flipV="1">
              <a:off x="1540080" y="1730160"/>
              <a:ext cx="5222160" cy="466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1448280" y="3638520"/>
              <a:ext cx="1099080" cy="184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2272680" y="2948040"/>
              <a:ext cx="1099080" cy="184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3097440" y="2142720"/>
              <a:ext cx="1099080" cy="184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3921840" y="1452240"/>
              <a:ext cx="1099080" cy="184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372480" y="762120"/>
              <a:ext cx="5038560" cy="520560"/>
              <a:chOff x="3372480" y="762120"/>
              <a:chExt cx="5038560" cy="520560"/>
            </a:xfrm>
          </p:grpSpPr>
          <p:sp>
            <p:nvSpPr>
              <p:cNvPr id="113" name=""/>
              <p:cNvSpPr/>
              <p:nvPr/>
            </p:nvSpPr>
            <p:spPr>
              <a:xfrm>
                <a:off x="3372480" y="762120"/>
                <a:ext cx="2656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Arial"/>
                  </a:rPr>
                  <a:t>Gorill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54600" y="762120"/>
                <a:ext cx="2656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Arial"/>
                  </a:rPr>
                  <a:t>Chimpanze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2548080" y="1452240"/>
              <a:ext cx="265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Arial"/>
                </a:rPr>
                <a:t>Tig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31880" y="2372760"/>
              <a:ext cx="265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Lizar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90720" y="3063240"/>
              <a:ext cx="265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504d"/>
                  </a:solidFill>
                  <a:latin typeface="Arial"/>
                </a:rPr>
                <a:t>Fis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3006360" y="4789080"/>
              <a:ext cx="4946760" cy="520560"/>
              <a:chOff x="3006360" y="4789080"/>
              <a:chExt cx="4946760" cy="520560"/>
            </a:xfrm>
          </p:grpSpPr>
          <p:sp>
            <p:nvSpPr>
              <p:cNvPr id="119" name=""/>
              <p:cNvSpPr/>
              <p:nvPr/>
            </p:nvSpPr>
            <p:spPr>
              <a:xfrm>
                <a:off x="3006360" y="5133960"/>
                <a:ext cx="11905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105440" y="4789080"/>
                <a:ext cx="3847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Four Limb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3738960" y="4098600"/>
              <a:ext cx="4946760" cy="520560"/>
              <a:chOff x="3738960" y="4098600"/>
              <a:chExt cx="4946760" cy="520560"/>
            </a:xfrm>
          </p:grpSpPr>
          <p:sp>
            <p:nvSpPr>
              <p:cNvPr id="122" name=""/>
              <p:cNvSpPr/>
              <p:nvPr/>
            </p:nvSpPr>
            <p:spPr>
              <a:xfrm>
                <a:off x="3738960" y="4443480"/>
                <a:ext cx="11908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838040" y="4098600"/>
                <a:ext cx="3847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Fu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" name=""/>
          <p:cNvGrpSpPr/>
          <p:nvPr/>
        </p:nvGrpSpPr>
        <p:grpSpPr>
          <a:xfrm>
            <a:off x="4876920" y="3505320"/>
            <a:ext cx="4114800" cy="520560"/>
            <a:chOff x="4876920" y="3505320"/>
            <a:chExt cx="4114800" cy="520560"/>
          </a:xfrm>
        </p:grpSpPr>
        <p:sp>
          <p:nvSpPr>
            <p:cNvPr id="125" name=""/>
            <p:cNvSpPr/>
            <p:nvPr/>
          </p:nvSpPr>
          <p:spPr>
            <a:xfrm>
              <a:off x="4876920" y="3733920"/>
              <a:ext cx="99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91320" y="350532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ail Lo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DC8A-91C2-4FB4-A39E-6DB4F01FC5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Gorilla Tail?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 we know the gorilla lost its tai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Text Placeholder 2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467160" cy="34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EE40-D526-4F1A-AB25-8EE478A9DF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Gorilla’s Vestigial Tail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pic>
        <p:nvPicPr>
          <p:cNvPr id="131" name="Text Placeholder 2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4038480" cy="2712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743200" y="5257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r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724280" y="2362320"/>
            <a:ext cx="4038840" cy="3355200"/>
            <a:chOff x="4724280" y="2362320"/>
            <a:chExt cx="4038840" cy="3355200"/>
          </a:xfrm>
        </p:grpSpPr>
        <p:pic>
          <p:nvPicPr>
            <p:cNvPr id="134" name="Text Placeholder 2" descr=""/>
            <p:cNvPicPr/>
            <p:nvPr/>
          </p:nvPicPr>
          <p:blipFill>
            <a:blip r:embed="rId2"/>
            <a:stretch/>
          </p:blipFill>
          <p:spPr>
            <a:xfrm>
              <a:off x="4724280" y="2362320"/>
              <a:ext cx="4038840" cy="29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6248520" y="525780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um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FB69-2BF2-480F-9D03-7A2DD770D9F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Synapomorphy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derived character shared by two or more grou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r is a synapomorphy for the various groups of mamm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apomorphies are used to determine evolutionary relation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F355-69B1-438A-A695-65B904A22A7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Phylogenetic Tree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pic>
        <p:nvPicPr>
          <p:cNvPr id="139" name="Text Placeholder 2" descr=""/>
          <p:cNvPicPr/>
          <p:nvPr/>
        </p:nvPicPr>
        <p:blipFill>
          <a:blip r:embed="rId1"/>
          <a:srcRect l="4597" t="4162" r="4600" b="7053"/>
          <a:stretch/>
        </p:blipFill>
        <p:spPr>
          <a:xfrm>
            <a:off x="1066680" y="1676520"/>
            <a:ext cx="6248520" cy="50623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867280" y="76320"/>
            <a:ext cx="3657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ws evolutionary relationsh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historical than clad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6476-3002-4101-9FCD-D67E2C3D71E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304920" y="304920"/>
            <a:ext cx="8838720" cy="5333400"/>
            <a:chOff x="304920" y="304920"/>
            <a:chExt cx="8838720" cy="5333400"/>
          </a:xfrm>
        </p:grpSpPr>
        <p:sp>
          <p:nvSpPr>
            <p:cNvPr id="142" name=""/>
            <p:cNvSpPr/>
            <p:nvPr/>
          </p:nvSpPr>
          <p:spPr>
            <a:xfrm rot="1749600">
              <a:off x="5410080" y="990000"/>
              <a:ext cx="380520" cy="1218960"/>
            </a:xfrm>
            <a:prstGeom prst="upArrow">
              <a:avLst>
                <a:gd name="adj1" fmla="val 50000"/>
                <a:gd name="adj2" fmla="val 80085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9659600">
              <a:off x="3412800" y="1047240"/>
              <a:ext cx="380520" cy="1218960"/>
            </a:xfrm>
            <a:prstGeom prst="upArrow">
              <a:avLst>
                <a:gd name="adj1" fmla="val 50000"/>
                <a:gd name="adj2" fmla="val 80085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66880" y="4800600"/>
              <a:ext cx="3580920" cy="83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38480" y="5029200"/>
              <a:ext cx="29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is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66880" y="3429000"/>
              <a:ext cx="3580920" cy="83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66880" y="2057400"/>
              <a:ext cx="3580920" cy="83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04920"/>
              <a:ext cx="3581280" cy="838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29200" y="304920"/>
              <a:ext cx="3580920" cy="838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33560" y="3581280"/>
              <a:ext cx="29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mphibi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86200" y="2286000"/>
              <a:ext cx="29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ti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71600" y="533160"/>
              <a:ext cx="29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i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72200" y="457200"/>
              <a:ext cx="29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mm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67080" y="4267080"/>
              <a:ext cx="380520" cy="533160"/>
            </a:xfrm>
            <a:prstGeom prst="upArrow">
              <a:avLst>
                <a:gd name="adj1" fmla="val 50000"/>
                <a:gd name="adj2" fmla="val 35028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67080" y="2895480"/>
              <a:ext cx="380520" cy="533160"/>
            </a:xfrm>
            <a:prstGeom prst="upArrow">
              <a:avLst>
                <a:gd name="adj1" fmla="val 50000"/>
                <a:gd name="adj2" fmla="val 35028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ACD2-C479-4BE6-B533-9BDEF76F786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Fish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tebr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e eg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modont tee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Text Placeholder 2" descr=""/>
          <p:cNvPicPr/>
          <p:nvPr/>
        </p:nvPicPr>
        <p:blipFill>
          <a:blip r:embed="rId1"/>
          <a:stretch/>
        </p:blipFill>
        <p:spPr>
          <a:xfrm>
            <a:off x="457200" y="2798640"/>
            <a:ext cx="4038480" cy="212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C492-2F41-4275-BFAE-62AF7C18E2D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Amphibian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 lim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tebr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e eg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modont tee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Text Placeholder 2" descr=""/>
          <p:cNvPicPr/>
          <p:nvPr/>
        </p:nvPicPr>
        <p:blipFill>
          <a:blip r:embed="rId1"/>
          <a:stretch/>
        </p:blipFill>
        <p:spPr>
          <a:xfrm>
            <a:off x="457200" y="1816200"/>
            <a:ext cx="4038480" cy="409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5DCC-79DE-419E-B5C3-3ACED823C17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arolus Linnaeus 1707-1778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ification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xonomic groups of related organisms -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AXONO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nomial nomencl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wo nam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enus spec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504d"/>
                </a:solidFill>
                <a:latin typeface="Calibri"/>
              </a:rPr>
              <a:t>Homo sapi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Text Placeholder 2" descr=""/>
          <p:cNvPicPr/>
          <p:nvPr/>
        </p:nvPicPr>
        <p:blipFill>
          <a:blip r:embed="rId1"/>
          <a:stretch/>
        </p:blipFill>
        <p:spPr>
          <a:xfrm>
            <a:off x="5562720" y="1447920"/>
            <a:ext cx="3001680" cy="45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ACEB-F7DE-48F2-8DD9-8266945B70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Reptile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 lim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tebr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niotic eg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modont tee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Text Placeholder 2" descr=""/>
          <p:cNvPicPr/>
          <p:nvPr/>
        </p:nvPicPr>
        <p:blipFill>
          <a:blip r:embed="rId1"/>
          <a:stretch/>
        </p:blipFill>
        <p:spPr>
          <a:xfrm>
            <a:off x="495360" y="1982880"/>
            <a:ext cx="3962520" cy="375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C8CE-E7B5-433B-8884-DA0D6A75DBF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Bird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 lim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tebr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niotic eg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tee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a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otherm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Text Placeholder 2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4038480" cy="335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F08B-F148-40E5-AE89-AA5ABA8CA73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Mammal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 lim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tebr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niotic eg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terodont tee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r or h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otherm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Text Placeholder 2" descr=""/>
          <p:cNvPicPr/>
          <p:nvPr/>
        </p:nvPicPr>
        <p:blipFill>
          <a:blip r:embed="rId1"/>
          <a:stretch/>
        </p:blipFill>
        <p:spPr>
          <a:xfrm>
            <a:off x="1333440" y="2146320"/>
            <a:ext cx="2286000" cy="343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EAA5-4A8C-4B52-9F05-49C57BAAEAB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1828800" y="1828800"/>
            <a:ext cx="7162920" cy="3736440"/>
            <a:chOff x="1828800" y="1828800"/>
            <a:chExt cx="7162920" cy="3736440"/>
          </a:xfrm>
        </p:grpSpPr>
        <p:sp>
          <p:nvSpPr>
            <p:cNvPr id="172" name=""/>
            <p:cNvSpPr/>
            <p:nvPr/>
          </p:nvSpPr>
          <p:spPr>
            <a:xfrm flipV="1">
              <a:off x="2286000" y="2437920"/>
              <a:ext cx="4343400" cy="312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209680" y="3733920"/>
              <a:ext cx="914400" cy="12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2895480" y="3276720"/>
              <a:ext cx="914400" cy="12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3581280" y="2742840"/>
              <a:ext cx="91440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4267080" y="2285640"/>
              <a:ext cx="91440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9880" y="182880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Bi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19920" y="198108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Mamm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24080" y="228600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Arial"/>
                </a:rPr>
                <a:t>Repti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09680" y="289548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Amphibi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828800" y="335268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504d"/>
                  </a:solidFill>
                  <a:latin typeface="Arial"/>
                </a:rPr>
                <a:t>Fis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5320" y="4724280"/>
              <a:ext cx="99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19720" y="44956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ur Limb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4114800" y="4038480"/>
              <a:ext cx="4114800" cy="459720"/>
              <a:chOff x="4114800" y="4038480"/>
              <a:chExt cx="4114800" cy="459720"/>
            </a:xfrm>
          </p:grpSpPr>
          <p:sp>
            <p:nvSpPr>
              <p:cNvPr id="185" name=""/>
              <p:cNvSpPr/>
              <p:nvPr/>
            </p:nvSpPr>
            <p:spPr>
              <a:xfrm>
                <a:off x="4114800" y="4267080"/>
                <a:ext cx="9907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029200" y="4038480"/>
                <a:ext cx="320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mniotic Eg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4876920" y="3733920"/>
              <a:ext cx="99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91320" y="3505320"/>
              <a:ext cx="32004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ndotherm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86400" y="3276720"/>
              <a:ext cx="990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304812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48320" y="2743200"/>
              <a:ext cx="99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00600" y="23623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eath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90920" y="5334120"/>
              <a:ext cx="99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5320" y="51055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ertebra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60F1-0518-41A0-BB02-2CACC07D6E6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228600" y="0"/>
            <a:ext cx="7162920" cy="3736440"/>
            <a:chOff x="228600" y="0"/>
            <a:chExt cx="7162920" cy="3736440"/>
          </a:xfrm>
        </p:grpSpPr>
        <p:sp>
          <p:nvSpPr>
            <p:cNvPr id="196" name=""/>
            <p:cNvSpPr/>
            <p:nvPr/>
          </p:nvSpPr>
          <p:spPr>
            <a:xfrm flipV="1">
              <a:off x="685800" y="609120"/>
              <a:ext cx="4343400" cy="312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609480" y="1905120"/>
              <a:ext cx="914400" cy="12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1295280" y="1447920"/>
              <a:ext cx="914400" cy="12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1981080" y="914040"/>
              <a:ext cx="91440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2666880" y="456840"/>
              <a:ext cx="91440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09680" y="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Bi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19720" y="15228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Mamm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23880" y="45720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Arial"/>
                </a:rPr>
                <a:t>Repti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9480" y="106668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Amphibi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" y="152388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504d"/>
                  </a:solidFill>
                  <a:latin typeface="Arial"/>
                </a:rPr>
                <a:t>Fis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05120" y="2895480"/>
              <a:ext cx="99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19520" y="26668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ur Limb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2514600" y="2209680"/>
              <a:ext cx="4114800" cy="459720"/>
              <a:chOff x="2514600" y="2209680"/>
              <a:chExt cx="4114800" cy="459720"/>
            </a:xfrm>
          </p:grpSpPr>
          <p:sp>
            <p:nvSpPr>
              <p:cNvPr id="209" name=""/>
              <p:cNvSpPr/>
              <p:nvPr/>
            </p:nvSpPr>
            <p:spPr>
              <a:xfrm>
                <a:off x="2514600" y="2438280"/>
                <a:ext cx="9907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429000" y="2209680"/>
                <a:ext cx="320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mniotic Eg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3276720" y="1905120"/>
              <a:ext cx="99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91120" y="1676520"/>
              <a:ext cx="32004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ndotherm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86200" y="1447920"/>
              <a:ext cx="990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876920" y="121932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48120" y="914400"/>
              <a:ext cx="99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00400" y="5335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eath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90720" y="3505320"/>
              <a:ext cx="99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05120" y="32767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ertebra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885840" y="3962520"/>
            <a:ext cx="5257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Synapomorph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050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Calibri"/>
              </a:rPr>
              <a:t>Four limbs for amphibians, reptiles, birds &amp; mamm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050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Calibri"/>
              </a:rPr>
              <a:t>Amniotic egg for reptiles, birds &amp; mamm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6A86-35C4-4E8D-A7FF-FE29500944F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Symplesiomorphy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acteristic shared by a number of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herited from ancestors older than the last common ances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mplesiomorphies  are not helpful in determining evolutionary relation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CC83-3B25-4D27-9EB1-A97A57A919C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228600" y="0"/>
            <a:ext cx="7162920" cy="3736440"/>
            <a:chOff x="228600" y="0"/>
            <a:chExt cx="7162920" cy="3736440"/>
          </a:xfrm>
        </p:grpSpPr>
        <p:sp>
          <p:nvSpPr>
            <p:cNvPr id="223" name=""/>
            <p:cNvSpPr/>
            <p:nvPr/>
          </p:nvSpPr>
          <p:spPr>
            <a:xfrm flipV="1">
              <a:off x="685800" y="609120"/>
              <a:ext cx="4343400" cy="312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609480" y="1905120"/>
              <a:ext cx="914400" cy="12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1295280" y="1447920"/>
              <a:ext cx="914400" cy="12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1981080" y="914040"/>
              <a:ext cx="91440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>
              <a:off x="2666880" y="456840"/>
              <a:ext cx="91440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09680" y="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Bi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19720" y="15228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Mamm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23880" y="45720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Arial"/>
                </a:rPr>
                <a:t>Repti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9480" y="106668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Amphibi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8600" y="152388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504d"/>
                  </a:solidFill>
                  <a:latin typeface="Arial"/>
                </a:rPr>
                <a:t>Fis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05120" y="2895480"/>
              <a:ext cx="99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19520" y="26668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ur Limb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2514600" y="2209680"/>
              <a:ext cx="4114800" cy="459720"/>
              <a:chOff x="2514600" y="2209680"/>
              <a:chExt cx="4114800" cy="459720"/>
            </a:xfrm>
          </p:grpSpPr>
          <p:sp>
            <p:nvSpPr>
              <p:cNvPr id="236" name=""/>
              <p:cNvSpPr/>
              <p:nvPr/>
            </p:nvSpPr>
            <p:spPr>
              <a:xfrm>
                <a:off x="2514600" y="2438280"/>
                <a:ext cx="9907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429000" y="2209680"/>
                <a:ext cx="320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mniotic Eg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3276720" y="1905120"/>
              <a:ext cx="99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91120" y="1676520"/>
              <a:ext cx="32004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ndotherm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886200" y="1447920"/>
              <a:ext cx="990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876920" y="121932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48120" y="914400"/>
              <a:ext cx="99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0400" y="5335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eath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90720" y="3505320"/>
              <a:ext cx="99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05120" y="32767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ertebra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3885840" y="3962520"/>
            <a:ext cx="5257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mplesiomorph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tebrae for amphibians, reptiles, birds &amp; mamm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limbs for reptiles, birds &amp; mamm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6844-9E94-4BDA-A0F1-8A145509A9F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Keys to Describing Physical Characteristics</a:t>
            </a:r>
            <a:endParaRPr b="1" lang="en-US" sz="40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t for all parties to understand descri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common termin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6D4F-570B-4C1D-BFCF-1B88C2A3F3E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62784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-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8920" y="91440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. 7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076960" cy="4954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0" y="91440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320" y="6324480"/>
            <a:ext cx="12189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21337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324480" y="2133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gittal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2760" y="457200"/>
            <a:ext cx="36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lateral Sym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0CAB-9EB7-480F-8460-62A9B13708A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Anatomical Terms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er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d end (front side in upright ma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ter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il end (back side in upright ma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r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k s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nt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lly s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09DD-8374-4A75-B4F6-F4BD6F0D181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ientists classify organisms and assign each organism a universally accepted na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uzza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666880" y="4343400"/>
            <a:ext cx="1928880" cy="1386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895480" y="5867280"/>
            <a:ext cx="1600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5867280"/>
            <a:ext cx="1600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aw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486400" y="4267080"/>
            <a:ext cx="1611360" cy="1486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What is Taxonomy?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92E6-77C8-44FC-92C6-9F783918E4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Anatomical Terms (cont)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se to the midd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te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se to the s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way from the main p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xim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se to the main p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9F82-7B37-426F-8436-35E69A93ED5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Anatomical Terms (cont)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 with the mou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posite end of the mou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phal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ward h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d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ward t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27A4-D959-4634-8E42-54D8D2B2EB6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Bilateral Symmetry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pic>
        <p:nvPicPr>
          <p:cNvPr id="264" name="Text Placeholder 2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3732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EBEB-E135-4FD8-AFA5-DCA1D9CA8B6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Radial Symmetry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pic>
        <p:nvPicPr>
          <p:cNvPr id="266" name="Text Placeholder 2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190760" cy="413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6203-5DDA-455E-B373-B829D4A737C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Asymmetry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pic>
        <p:nvPicPr>
          <p:cNvPr id="268" name="Text Placeholder 2" descr=""/>
          <p:cNvPicPr/>
          <p:nvPr/>
        </p:nvPicPr>
        <p:blipFill>
          <a:blip r:embed="rId1"/>
          <a:stretch/>
        </p:blipFill>
        <p:spPr>
          <a:xfrm>
            <a:off x="2743200" y="1143000"/>
            <a:ext cx="349092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A034-1C63-4249-8F8A-D45B2E518A1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Text Placeholder 2" descr=""/>
          <p:cNvPicPr/>
          <p:nvPr/>
        </p:nvPicPr>
        <p:blipFill>
          <a:blip r:embed="rId1"/>
          <a:stretch/>
        </p:blipFill>
        <p:spPr>
          <a:xfrm>
            <a:off x="1066680" y="0"/>
            <a:ext cx="6096240" cy="56437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alibri"/>
              </a:rPr>
              <a:t>The End</a:t>
            </a:r>
            <a:endParaRPr b="1" lang="en-US" sz="80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7041-A874-4CF0-A23C-99FC3614314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Text Placeholder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4854600" cy="67057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86200" y="-3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Taxonomic Groups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C892-FE5A-4CD5-861C-39B2D6E932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ext Placeholder 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7010280" cy="525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56BA-54B4-47A9-A5CA-13908B771D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lassification of Man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ngd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Animal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lu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Chor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Mammal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d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Prim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mi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Hominida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c0504d"/>
                </a:solidFill>
                <a:latin typeface="Calibri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c0504d"/>
                </a:solidFill>
                <a:latin typeface="Calibri"/>
              </a:rPr>
              <a:t>Homo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c0504d"/>
                </a:solidFill>
                <a:latin typeface="Calibri"/>
              </a:rPr>
              <a:t>sapi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58672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-nomial nomencl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87692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E258-FDC7-423D-A064-088613AEB5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Species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Species are groups of actually or potentially interbreeding populations, which are reproductively isolated from other such group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oductively isolated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Text Placeholder 2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3036960" cy="3119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562720" y="50292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Ernst Ma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C456-A1B8-477B-B149-BEA4112627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Categorizing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rganisms could  be described in terms of touch, smell, and/or sound as well.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surprisingly, biologists also classify organisms into different categories mostly by judg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grees of apparent 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Calibri"/>
              </a:rPr>
              <a:t>similarit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and 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Calibri"/>
              </a:rPr>
              <a:t>differe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at they can see.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ssumption is that the greater the degree of physical similarity, the closer the biological relationshi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1DA8-06E9-44F6-9DFE-4FC0F7AF94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40:35Z</dcterms:created>
  <dc:creator>DEAnderson</dc:creator>
  <dc:description/>
  <dc:language>en-US</dc:language>
  <cp:lastModifiedBy>joconnor</cp:lastModifiedBy>
  <dcterms:modified xsi:type="dcterms:W3CDTF">2010-11-08T15:42:17Z</dcterms:modified>
  <cp:revision>79</cp:revision>
  <dc:subject/>
  <dc:title>Classification</dc:title>
</cp:coreProperties>
</file>